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2C561-0595-4A50-8726-43CCB7027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AC92-A9A8-415C-8326-295E5E01B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281C3-1FE8-4CD2-B677-BBC5D7E70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8DABC-7800-4CFF-9BC9-19EA17C76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526F-F29D-4DC5-8B70-F2ECB3059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D2E5-748A-4E6D-94F6-5A5B30DA0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B349F-9ED4-4EA1-AC80-D8CA31874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6AEA5-02B5-4E46-BF9E-18B419F0B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AACB4-A7BB-43E5-AD9F-DE1BDA115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27A8-0DFE-4340-8AE0-9DAA5E8D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D5DD-3A71-4DE5-9DD2-1496FD22E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6AD5-595B-4671-BF47-EAE19B50C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9DDB-5ADF-4269-9068-BC7E490842C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4280"/>
            <a:ext cx="7772400" cy="338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Fold Mountai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e Himalayas the material that now forms the mountains was originally on the bottom of the non-existent Tethy's Se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 Indian plate pushed towards the Eurasian one, the sediments were folded up to form the Himalayas, leaving the only trace of the sea to be the fossilised shells that you can find high up in the mountai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along both </a:t>
            </a:r>
            <a:r>
              <a:rPr b="1" lang="en-US" sz="3200" spc="-1" strike="noStrike">
                <a:solidFill>
                  <a:srgbClr val="000000"/>
                </a:solidFill>
                <a:latin typeface="Calibri"/>
              </a:rPr>
              <a:t>destructive</a:t>
            </a:r>
            <a:r>
              <a:rPr b="0" lang="en-US" sz="3200" spc="-1" strike="noStrike">
                <a:solidFill>
                  <a:srgbClr val="000000"/>
                </a:solidFill>
                <a:latin typeface="Calibri"/>
              </a:rPr>
              <a:t> and </a:t>
            </a:r>
            <a:r>
              <a:rPr b="1" lang="en-US" sz="3200" spc="-1" strike="noStrike">
                <a:solidFill>
                  <a:srgbClr val="000000"/>
                </a:solidFill>
                <a:latin typeface="Calibri"/>
              </a:rPr>
              <a:t>collision plate boundaries</a:t>
            </a:r>
            <a:r>
              <a:rPr b="0" lang="en-US" sz="3200" spc="-1" strike="noStrike">
                <a:solidFill>
                  <a:srgbClr val="000000"/>
                </a:solidFill>
                <a:latin typeface="Calibri"/>
              </a:rPr>
              <a:t>, in other words where two plates are pushing towards each 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examples are the Himalayas, the Rockies, the Andes and the Alps, all of which are huge fold mountain ranges caused by the collision of two pl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ory</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neral theory is that as two plates, with land masses on them, move towards each other they push layers of accumulated sediment in the sea between them up into fol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most fold mountains will continue to grow, as the plates constantly move towards each 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Fold Mountains: Constructive Boundaries</a:t>
            </a:r>
            <a:endParaRPr b="0" lang="en-US" sz="4000" spc="-1" strike="noStrike">
              <a:solidFill>
                <a:srgbClr val="000000"/>
              </a:solidFill>
              <a:latin typeface="Calibri"/>
            </a:endParaRPr>
          </a:p>
        </p:txBody>
      </p:sp>
      <p:pic>
        <p:nvPicPr>
          <p:cNvPr id="47" name="Picture 2" descr="https://thegeosphere.pbworks.com/f/1201098999/Continental%20Continental%20Convergent.gif"/>
          <p:cNvPicPr/>
          <p:nvPr/>
        </p:nvPicPr>
        <p:blipFill>
          <a:blip r:embed="rId1"/>
          <a:stretch/>
        </p:blipFill>
        <p:spPr>
          <a:xfrm>
            <a:off x="468360" y="1628640"/>
            <a:ext cx="8207280" cy="471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lready seen, at a destructive plate boundary the oceanic plate is subducted beneath the continental on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lten material then rises to the surface to form volcanoes, either in an island arc (e.g. the West Indies) or on the continental land mass (e.g. the volcanoes of the And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both cases Fold Mountains can be form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a:t>
            </a:r>
            <a:r>
              <a:rPr b="1" lang="en-US" sz="3200" spc="-1" strike="noStrike">
                <a:solidFill>
                  <a:srgbClr val="000000"/>
                </a:solidFill>
                <a:latin typeface="Calibri"/>
              </a:rPr>
              <a:t>Nazca</a:t>
            </a:r>
            <a:r>
              <a:rPr b="0" lang="en-US" sz="3200" spc="-1" strike="noStrike">
                <a:solidFill>
                  <a:srgbClr val="000000"/>
                </a:solidFill>
                <a:latin typeface="Calibri"/>
              </a:rPr>
              <a:t> plate dives under the South American one, their motion forward also has been pushing sediment toge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over millions of years, has been pushed up into huge fold mountains: The And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in them there are also volcanoes as the mountains are above the subduction z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n island arc has been formed, the same idea oc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millions of years the movement of the two plates together will push the island arc nearer to the contin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is occurs the sediments on the seabed are folded up to become huge mountai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ld Mountains: Collision Margins</a:t>
            </a:r>
            <a:endParaRPr b="0" lang="en-US" sz="4400" spc="-1" strike="noStrike">
              <a:solidFill>
                <a:srgbClr val="000000"/>
              </a:solidFill>
              <a:latin typeface="Calibri"/>
            </a:endParaRPr>
          </a:p>
        </p:txBody>
      </p:sp>
      <p:pic>
        <p:nvPicPr>
          <p:cNvPr id="55" name="Picture 2" descr="http://www.infoplease.com/images/ESCI214MOUBUI002.gif"/>
          <p:cNvPicPr/>
          <p:nvPr/>
        </p:nvPicPr>
        <p:blipFill>
          <a:blip r:embed="rId1"/>
          <a:stretch/>
        </p:blipFill>
        <p:spPr>
          <a:xfrm>
            <a:off x="826920" y="1413000"/>
            <a:ext cx="7490160" cy="51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occur less frequently, but two excellent examples are the Himalayas, where the Indian plate is moving North and East towards the stationary European plate, and the Alps, formed by the collision between the African and Eurasian pla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se examples both plates are Continental ones, and so can neither sink nor be destroy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terial between them is therefore forced upwards to form the mountai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4:20:08Z</dcterms:created>
  <dc:creator>Dell_02</dc:creator>
  <dc:description/>
  <dc:language>en-US</dc:language>
  <cp:lastModifiedBy>Dell_02</cp:lastModifiedBy>
  <dcterms:modified xsi:type="dcterms:W3CDTF">2011-01-26T14:42:44Z</dcterms:modified>
  <cp:revision>2</cp:revision>
  <dc:subject/>
  <dc:title>Fold Mountains</dc:title>
</cp:coreProperties>
</file>